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A58-916B-4CAF-B5AC-0B4F07DC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E40-D65C-4E6B-BD48-70BDB4FE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36D-CBEB-4465-B25E-CC8ED53D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245A-39FC-4173-BBF1-69A0B693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EE5-8573-4CD5-B8D5-B6DCA8B2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2B3-E5FC-44C6-A959-98CA5012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51C-DF27-40FB-8D6E-E13F0D96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63E-75D7-4577-BC87-769A6781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51BC-0EC8-4C38-B646-5E542D97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BC3-D3DA-44A2-8806-DE30586D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B4AF-6D0D-40E8-B5D0-35783609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9504-D31D-4395-97A9-9B65DFFC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006D-E135-4969-9425-29CACB5A4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763120" cy="5986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1219320"/>
            <a:ext cx="228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371600"/>
            <a:ext cx="2209680" cy="45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nges that happen in an area when no soil or organisms ex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species to populate area- pioneer species they are carried by the wind or w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t seeds land in the new soil and then they start growing pl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 take centuries for the land to reach the completely fertil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eps of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is no s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irst things to grow are mosses and liche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il forms and some plants gr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plants die they make the plants grow and more plants mature in the fertile so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Succession                                      Secondary Succe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1447920"/>
            <a:ext cx="221004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grow in an area that currently don’t have planted plants in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 product is a rich, fertile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914400"/>
            <a:ext cx="21333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that happen in an area where the ecosystem has been disturbed but where soil and organisms still 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Grasses and wildflowers take over an abandoned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fter a few years, pine seedlings and other plants replace some grasses and wild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As tree growth continues, the trees begin to crowd out the grasses and wild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ventually, a mixed forest gr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7:59:13Z</dcterms:created>
  <dc:creator>Prapti Shah</dc:creator>
  <dc:description/>
  <dc:language>en-US</dc:language>
  <cp:lastModifiedBy>Prapti Shah</cp:lastModifiedBy>
  <dcterms:modified xsi:type="dcterms:W3CDTF">2008-11-23T18:00:51Z</dcterms:modified>
  <cp:revision>2</cp:revision>
  <dc:subject/>
  <dc:title>Slide 1</dc:title>
</cp:coreProperties>
</file>